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F0CB-01B5-45DA-866B-B58191E3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77B7-C770-4097-9CBC-A9C9116C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0459-5B91-4D8B-A15C-8E150F2C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1DF9-28CA-4D56-AAF1-7C784391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83D7-2FCD-4709-AD39-2A1F3C1C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AD8F-2EF2-4EAB-BEE9-956897DB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4A4E-D08E-4270-AF45-9ACCDDAD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DAB3-4C0B-4BF0-885E-7D6F9F93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3F13-E1BD-4914-BFDB-06C02B01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F481-7A99-499B-B1DE-3399C8CB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4281-8345-44F2-B3CC-0A9F3F51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5906-5FA6-4E1B-AA10-15283303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C1DC-7E39-45F8-9695-EB1CFD76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8360-EBC1-4A72-915E-D4F2B32A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BEE7-B8A0-491F-96E2-148AFF3B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6062-E6AD-4C19-AB23-501E7AB9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27BF-D95E-4221-9CC0-CEC857DB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D5AB-5E53-48CC-8BC4-B1FDF371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ED0B-75FB-4FBD-ACA4-2F38D27A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8C01-D7F9-453E-8C44-151E9725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CA16-4697-4CDB-9467-D21A46B3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2333-A133-4E55-A64A-BF806C74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AB85-696D-44E1-A10F-014131EE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77B1-45F8-42F7-A948-939275DE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CB05-90E5-4CA3-8A2B-50E02AF3CE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0D6D-0DDB-4AC9-9036-4787445426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73664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doni MT Black"/>
              </a:rPr>
              <a:t>THE WISE AND FOOLISH BUILD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267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nguiat Bk BT"/>
              </a:rPr>
              <a:t>Matthew 7:24-27, Luke 6:46-4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Translating hearing into do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Obedience must be added to hearing Jesus’ wo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iven at the close to the Sermon o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u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sermon demanded a positive response – it could not be ignor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The challenge of the sermon would not go aw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is no neutral ground – no third op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at challenge is a fitting conclusion to these last parables, for the response to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message is crucial, critic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Hea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Soi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Ponde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Children at Pl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Respon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o the Message – Th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In the latter part of the sermon, Jesus uses three sets of contrast to show the absolute necessity of obedience to His 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3-14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Broa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destruction,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nd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Narrow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6-19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Goo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good fruit an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evil fru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n the third i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ip-service is never a substitute for actions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7:21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not everyone who says unto me Lord,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Lord…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uke 6:4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nd why me Lord, Lord and do not the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things I say?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Unreserved obedience is demanded by our L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Romans 2:13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for it is not those who hear the law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who are righteous in God’s sight, but it those wh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obey the law who will be declared righteous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re was no profit to the Hebrews because they did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not associate hearing the word with doing the w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Hebrews 3:19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so we see they were not able t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enter, because of their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Hebrews 4: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…they did not go in because of their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ames 2:2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 man is justified by what he does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not by faith only.”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ll hearers ar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oth heard the same message – And it was the right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are only two kinds of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Jesus’ word; life modeled by Hi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orals; patterned by His examp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foundations of his own choosing;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akes up his own life-style; establishes his prioriti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Hearers have two choices from which to choose their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found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“Puts them into practice” – obeys = rock – has a soli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foundation for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Christ’s words are truth – John 8:31-32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is words came from God – John 8:48-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5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e the foundation on which God build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church – Matthew 16:1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“Does not put them into practice” – disobeys = Sand – Shifty,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unstab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) Rejection of Jesus’ teaching is a choic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) This is the spirit and attitude of the sons of disobedient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Ephesians 2:2-3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3) If God doesn’t build the house, the laborers build in vain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Psalm 127: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floods will com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1 Peter 4:12 –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Do not be surprised at the painful trials…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2 Timothy 3:12 – If you live a godly life, you will suff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houses are tested by flood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Impartial – Same flood hits both hous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Each man’s works will be made known – 1 Corinthians 3:13;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cf. Hebrews 12:1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Only one builder will stand – the one who obeys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Only the obedient are saved – Hebrews 5:9; 2 Thessalonians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1: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And it fell with a great crash.”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– Everything was lost!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05Z</dcterms:created>
  <dc:creator>Jerry Cantrell </dc:creator>
  <dc:description/>
  <dc:language>en-US</dc:language>
  <cp:lastModifiedBy>Jerry Cantrell </cp:lastModifiedBy>
  <dcterms:modified xsi:type="dcterms:W3CDTF">2006-02-19T10:13:58Z</dcterms:modified>
  <cp:revision>7</cp:revision>
  <dc:subject/>
  <dc:title>THE WISE AND FOOLISH BUILDERS</dc:title>
</cp:coreProperties>
</file>